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6A2-FDFB-425D-8877-64823BA9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A17-54E0-4AE9-BF46-49B598A0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FF9-D7D3-455D-B439-962CF5E6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961-9F0F-4965-98B9-A66704D6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1A0-D3A9-4BBC-A83E-41327994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C38A-A76E-4E88-A2F5-94E3B4E2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9C5-E614-4490-A955-FC8FF14A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0F1-4066-4EDF-8307-851D7C9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CE7B-41B6-441F-9CC9-F81B3F69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0733-71D2-4C64-9D21-F56A582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A9DA-ABBA-4FD3-801A-7A6EBD91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C78-7651-4C88-8BF7-1B7D073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34FD-79C1-4AFC-8A1B-6529968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84E4-6AE7-4640-A143-01D946B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B498-58D5-4C12-A061-49E04583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33F2-0401-420D-A2DE-1A9A8DAB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D8D2-9E73-48EE-B160-10E93648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A67-288B-4343-8368-ED62F422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0F1-4027-42C3-BAB1-9EA706E0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D56-43D9-45B6-8426-3DF77EB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336-8064-4FB2-853C-C917799F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C9F-11A3-4941-82EE-BCA13AA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CD1-EA83-4B4E-9C32-658C7A0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E5D-B2CE-4D9A-8533-DB4BEE0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AF0-3306-4F88-97F3-290021BFAD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6C6A-C35C-468F-9D9B-59F074A92B58}" type="slidenum">
              <a:rPr b="0" lang="ar-SA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cs typeface="2  Zar"/>
              </a:rPr>
              <a:t>بسم الله الرحمن الرحيم</a:t>
            </a: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ea typeface="2  Zar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7cc17"/>
                </a:solidFill>
                <a:latin typeface="Arial"/>
                <a:cs typeface="2  Zar"/>
              </a:rPr>
              <a:t>نگرش ها ، راهبردها و اطلاعات كاربردي</a:t>
            </a:r>
            <a:br>
              <a:rPr sz="3200"/>
            </a:b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37576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قال احساس علاقمندي رضايتمند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تفريحات ، خلاقيتها و سرگرمي هاي زند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فظ محرمانه بودن مسائل خانوادگي و 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ظهار آسيب،ترس يا خشم در قالب جملات وپرسش هاي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خشش خطاهاي يكديگر(لجاجت را رها كن وببخش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اعتماد ،احترام متقابل و وفاداري به عنوان پايه و اساس رابطه ماندگ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جام رفتارهاي مراقبانه و رهبري و مديري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نستن اينكه هر كس لحظاتي شاد يا غمگين خواهد بو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و رشد احساس قوي ”ما ” بو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مداوم سپاسگزا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roses flower.jpg"/>
          <p:cNvPicPr/>
          <p:nvPr/>
        </p:nvPicPr>
        <p:blipFill>
          <a:blip r:embed="rId1"/>
          <a:stretch/>
        </p:blipFill>
        <p:spPr>
          <a:xfrm>
            <a:off x="1763640" y="105264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PAIRS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Titr"/>
              </a:rPr>
              <a:t>از ديدگاه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2491920"/>
            <a:ext cx="806436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Tahoma"/>
                <a:cs typeface="2  Zar"/>
              </a:rPr>
              <a:t>كاربرد عملي مهارتهاي ارتباط صميم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images.jpg"/>
          <p:cNvPicPr/>
          <p:nvPr/>
        </p:nvPicPr>
        <p:blipFill>
          <a:blip r:embed="rId1"/>
          <a:stretch/>
        </p:blipFill>
        <p:spPr>
          <a:xfrm>
            <a:off x="1547640" y="1341360"/>
            <a:ext cx="652788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خن اصل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لازمه ازدواج پايدار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 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ايجاد صميميت ماندگار است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3" name="Content Placeholder 3" descr="images3.jpg"/>
          <p:cNvPicPr/>
          <p:nvPr/>
        </p:nvPicPr>
        <p:blipFill>
          <a:blip r:embed="rId1"/>
          <a:stretch/>
        </p:blipFill>
        <p:spPr>
          <a:xfrm>
            <a:off x="2124000" y="1557360"/>
            <a:ext cx="575172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اين برنامه شامل موارد ذيل مي باشد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1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اماندهي نگرش ها و عقايد درباره توانمندي هاي عاطف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2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آموزش و گسترش خودآگاهي ، ادبيات عاطفي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3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تغيير رفتارهاي ناكارآمد از طريق آموزش رفتارها و مهارتهاي افزايش دهنده صميميت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PAIRS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Titr"/>
              </a:rPr>
              <a:t>حوزه هاي آموزشي روش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ea typeface="B Tit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دبيا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هارتهاي مشترك زو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نگرش ها ، راهبردها و اطلاعات كاربر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</a:rPr>
              <a:t>ادبيات عاطف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99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 عاطفه اصلي و توانايي ابراز آن (درد ، ترس ، خشم ، عشق ، لذت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حساسيت هاي بيش از حد عاطفي خ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شخيص شخصيت هاي بيش از حد عاطفي از شخصيت هاي سرد و بيرو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احساسات بدون ايجاد ناراحتي يا سرزن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گوش دادن به ديگري براي ايجاد امني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ديريت هيجانات بخصوص خشم به جاي سركوبي عواط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شتن احساس ارزشمن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620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2  Zar"/>
              </a:rPr>
              <a:t>مهارتهاي مشترك زوجي</a:t>
            </a:r>
            <a:br>
              <a:rPr sz="4400"/>
            </a:b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اعتماد بين زوجين از طريق گوش دادن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يادگيري شكايت از يكديگر بدون حمله كر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ل تعارضات با نگرش برنده – برن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وافق در زمينه هاي استقلال شخصي ، مالكيت و تصميم گي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فاف سازي تصورات ذهني و كم كردن سوء تفاهم 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پذيرش نيازهاي اساسي احساسات جنسي و داشتن نگرش هاي درست در اين زم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شخص كردن مرزهاي حريم خصوصي خانوا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6:11:32Z</dcterms:created>
  <dc:creator>Dear User!</dc:creator>
  <dc:description/>
  <dc:language>en-US</dc:language>
  <cp:lastModifiedBy>mofateh</cp:lastModifiedBy>
  <dcterms:modified xsi:type="dcterms:W3CDTF">2015-05-20T03:48:25Z</dcterms:modified>
  <cp:revision>22</cp:revision>
  <dc:subject/>
  <dc:title>مهارت خود آگاهي</dc:title>
</cp:coreProperties>
</file>