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C02-B73D-49AB-A60C-34117C26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514-7469-48EA-83F9-12EE43E8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0FD-E21A-4599-9ED8-52C34046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B2D-EA4B-423B-AFFA-0D65F857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42AF-E3A5-445A-AEF4-5A3E682F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1316-E3FE-4FA1-BCB7-243AFC00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4A6C-8DF1-4C97-BB73-CAAFFD6B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E331-9EF3-4363-A1B9-C08A6037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78E3-9FDC-4181-AF60-D85E2FD4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C4C7-1DC1-400B-87EA-EA65DBBD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7A2E-4357-4907-BED8-2F49DBFE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B90-F93F-4FCC-AB70-04D80A0F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F905-1918-42D1-A418-19604D17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ADC1-05B1-4B36-B98C-B3110913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67D3-EDA2-450F-ADC4-14044CC0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D691-0271-40B3-9D13-95B5A37B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7077-C029-4CFB-A55F-73BDC992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01A-5D41-4695-841C-622C10FD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0E3-A00A-43B0-8552-373CA3BD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5B0E-D65E-4137-B579-55B61923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4A9-A798-47AA-8C1B-2277C66E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E27-6EC7-4B06-9B4A-108E646C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364-6F11-4E02-AF42-CBC88084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A13-3015-4E6A-AC2F-6C5CD40C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8AF0-8B7D-4A3F-80C4-48F3A85B88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190F-F3E1-4A86-84FF-FE64A5BB9BB2}" type="slidenum">
              <a:rPr b="0" lang="ar-SA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110_Besmellah_5(MRT)"/>
                <a:cs typeface="2  Zar"/>
              </a:rPr>
              <a:t>بسم الله الرحمن الرحيم</a:t>
            </a:r>
            <a:r>
              <a:rPr b="0" lang="fa-IR" sz="8800" spc="-1" strike="noStrike">
                <a:solidFill>
                  <a:srgbClr val="ffffff"/>
                </a:solidFill>
                <a:latin typeface="110_Besmellah_5(MRT)"/>
                <a:ea typeface="2  Zar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84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7cc17"/>
                </a:solidFill>
                <a:latin typeface="Arial"/>
                <a:cs typeface="2  Zar"/>
              </a:rPr>
              <a:t>نگرش ها ، راهبردها و اطلاعات كاربردي</a:t>
            </a:r>
            <a:br>
              <a:rPr sz="3200"/>
            </a:br>
            <a:endParaRPr b="1" lang="en-US" sz="32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37576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نتقال احساس علاقمندي رضايتمندا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نتخاب تفريحات ، خلاقيتها و سرگرمي هاي زند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حفظ محرمانه بودن مسائل خانوادگي و 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ظهار آسيب،ترس يا خشم در قالب جملات وپرسش هاي همدلا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بخشش خطاهاي يكديگر(لجاجت را رها كن وببخش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نتخاب اعتماد ،احترام متقابل و وفاداري به عنوان پايه و اساس رابطه ماندگ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نجام رفتارهاي مراقبانه و رهبري و مديري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دانستن اينكه هر كس لحظاتي شاد يا غمگين خواهد بو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يجاد و رشد احساس قوي ”ما ” بود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بيان مداوم سپاسگزا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roses flower.jpg"/>
          <p:cNvPicPr/>
          <p:nvPr/>
        </p:nvPicPr>
        <p:blipFill>
          <a:blip r:embed="rId1"/>
          <a:stretch/>
        </p:blipFill>
        <p:spPr>
          <a:xfrm>
            <a:off x="1763640" y="1052640"/>
            <a:ext cx="5761080" cy="540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B Titr"/>
              </a:rPr>
              <a:t>مشاوره پيش از ازدواج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ea typeface="B Titr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7cc17"/>
                </a:solidFill>
                <a:latin typeface="Arial"/>
                <a:ea typeface="Titr"/>
              </a:rPr>
              <a:t> 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  <a:ea typeface="Titr"/>
              </a:rPr>
              <a:t>PAIRS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ea typeface="Titr"/>
              </a:rPr>
              <a:t> 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Titr"/>
              </a:rPr>
              <a:t>از ديدگاه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2491920"/>
            <a:ext cx="806436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ff"/>
                </a:solidFill>
                <a:latin typeface="Tahoma"/>
                <a:cs typeface="2  Zar"/>
              </a:rPr>
              <a:t>كاربرد عملي مهارتهاي ارتباط صميم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images.jpg"/>
          <p:cNvPicPr/>
          <p:nvPr/>
        </p:nvPicPr>
        <p:blipFill>
          <a:blip r:embed="rId1"/>
          <a:stretch/>
        </p:blipFill>
        <p:spPr>
          <a:xfrm>
            <a:off x="1547640" y="1341360"/>
            <a:ext cx="6527880" cy="489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B Titr"/>
              </a:rPr>
              <a:t>مشاوره پيش از ازدواج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ea typeface="B Titr"/>
              </a:rPr>
              <a:t>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سخن اصلي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ffffff"/>
                </a:solidFill>
                <a:latin typeface="Tahoma"/>
                <a:cs typeface="2  Zar"/>
              </a:rPr>
              <a:t>لازمه ازدواج پايدار</a:t>
            </a:r>
            <a:r>
              <a:rPr b="0" lang="fa-IR" sz="4800" spc="-1" strike="noStrike">
                <a:solidFill>
                  <a:srgbClr val="ffffff"/>
                </a:solidFill>
                <a:latin typeface="Tahoma"/>
                <a:ea typeface="2  Zar"/>
              </a:rPr>
              <a:t> 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ffffff"/>
                </a:solidFill>
                <a:latin typeface="Tahoma"/>
                <a:cs typeface="2  Zar"/>
              </a:rPr>
              <a:t>ايجاد صميميت ماندگار است</a:t>
            </a:r>
            <a:r>
              <a:rPr b="0" lang="fa-IR" sz="4800" spc="-1" strike="noStrike">
                <a:solidFill>
                  <a:srgbClr val="ffffff"/>
                </a:solidFill>
                <a:latin typeface="Tahoma"/>
                <a:ea typeface="2  Zar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93" name="Content Placeholder 3" descr="images3.jpg"/>
          <p:cNvPicPr/>
          <p:nvPr/>
        </p:nvPicPr>
        <p:blipFill>
          <a:blip r:embed="rId1"/>
          <a:stretch/>
        </p:blipFill>
        <p:spPr>
          <a:xfrm>
            <a:off x="2124000" y="1557360"/>
            <a:ext cx="5751720" cy="453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B Titr"/>
              </a:rPr>
              <a:t>مشاوره پيش از ازدواج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اين برنامه شامل موارد ذيل مي باشد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1 .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ساماندهي نگرش ها و عقايد درباره توانمندي هاي عاطفي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2 .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آموزش و گسترش خودآگاهي ، ادبيات عاطفي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3 .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تغيير رفتارهاي ناكارآمد از طريق آموزش رفتارها و مهارتهاي افزايش دهنده صميميت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69192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B Titr"/>
              </a:rPr>
              <a:t>مشاوره پيش از ازدواج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ea typeface="B Titr"/>
              </a:rPr>
              <a:t>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tr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tr"/>
              </a:rPr>
              <a:t>PAIRS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Titr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B Titr"/>
              </a:rPr>
              <a:t>حوزه هاي آموزشي روش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  <a:ea typeface="B Tit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دبيات عاطف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مهارتهاي مشترك زوج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نگرش ها ، راهبردها و اطلاعات كاربر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</a:rPr>
              <a:t>ادبيات عاطفي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7994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شناخت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2  Zar"/>
              </a:rPr>
              <a:t>5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2  Zar"/>
              </a:rPr>
              <a:t> عاطفه اصلي و توانايي ابراز آن (درد ، ترس ، خشم ، عشق ، لذت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شناخت حساسيت هاي بيش از حد عاطفي خو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تشخيص شخصيت هاي بيش از حد عاطفي از شخصيت هاي سرد و بيرو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بيان احساسات بدون ايجاد ناراحتي يا سرزن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گوش دادن به ديگري براي ايجاد امنيت عاطف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مديريت هيجانات بخصوص خشم به جاي سركوبي عواط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داشتن احساس ارزشمن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640" y="6206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2  Zar"/>
              </a:rPr>
              <a:t>مهارتهاي مشترك زوجي</a:t>
            </a:r>
            <a:br>
              <a:rPr sz="4400"/>
            </a:b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يجاد اعتماد بين زوجين از طريق گوش دادن همدلا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يادگيري شكايت از يكديگر بدون حمله كرد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حل تعارضات با نگرش برنده – برند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توافق در زمينه هاي استقلال شخصي ، مالكيت و تصميم گي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شفاف سازي تصورات ذهني و كم كردن سوء تفاهم 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پذيرش نيازهاي اساسي احساسات جنسي و داشتن نگرش هاي درست در اين زمي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مشخص كردن مرزهاي حريم خصوصي خانواد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6:11:32Z</dcterms:created>
  <dc:creator>Dear User!</dc:creator>
  <dc:description/>
  <dc:language>en-US</dc:language>
  <cp:lastModifiedBy>mofateh</cp:lastModifiedBy>
  <dcterms:modified xsi:type="dcterms:W3CDTF">2015-05-20T03:48:25Z</dcterms:modified>
  <cp:revision>22</cp:revision>
  <dc:subject/>
  <dc:title>مهارت خود آگاهي</dc:title>
</cp:coreProperties>
</file>