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ECF-9BD8-4324-9412-D03EE7A2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0F5-BDDE-4823-A0E6-4375EB47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5ED8-66FF-45B4-BAC0-D35D7F9A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930-1337-4A1B-B14E-4891D0C6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23C4-0274-4A80-93D5-8FB52DBF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35EB-2BC8-4608-B7DA-8C9F0D7B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ED24-F01F-4D41-BB58-5C6DCD03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5DFF-DF6B-4CAF-A5A9-8EFB39A3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479C-F510-4D2E-ABE8-649BF459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22E9-E38C-4392-944A-DFB4857D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3EBD-66ED-4155-8AD3-3553C311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AEF-FC7B-4574-A3F2-3FDC623D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3BB0-DEF2-4CF7-926E-7BDB6886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7DE7-7E01-418C-A52B-6914012E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81BA-219B-4883-9385-12B0416A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8262-B669-488B-8D84-92A9C25A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4E36-D221-4D93-856A-DB557004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E6E-C684-41FE-88D6-E6518C21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6C1-26E1-47AD-BD25-D836046C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E16-29EA-42D0-BC47-C1EA8283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9227-9B17-4182-8AFB-F40BF4CD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B6E-63A4-4114-8AA8-61B10AD0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ED4-AA36-4A34-8C34-331ACE70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46C-27D8-4A5F-ABD6-4B58677A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F77F-766F-49CC-AE1F-7C1EC98B98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ADB7-2AAB-4996-9B94-4588B842FD33}" type="slidenum">
              <a:rPr b="0" lang="ar-SA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110_Besmellah_5(MRT)"/>
                <a:cs typeface="2  Zar"/>
              </a:rPr>
              <a:t>بسم الله الرحمن الرحيم</a:t>
            </a:r>
            <a:r>
              <a:rPr b="0" lang="fa-IR" sz="8800" spc="-1" strike="noStrike">
                <a:solidFill>
                  <a:srgbClr val="ffffff"/>
                </a:solidFill>
                <a:latin typeface="110_Besmellah_5(MRT)"/>
                <a:ea typeface="2  Zar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4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7cc17"/>
                </a:solidFill>
                <a:latin typeface="Arial"/>
                <a:cs typeface="2  Zar"/>
              </a:rPr>
              <a:t>نگرش ها ، راهبردها و اطلاعات كاربردي</a:t>
            </a:r>
            <a:br>
              <a:rPr sz="3200"/>
            </a:br>
            <a:endParaRPr b="1" lang="en-US" sz="32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620640"/>
            <a:ext cx="837576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تقال احساس علاقمندي رضايتمندا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تخاب تفريحات ، خلاقيتها و سرگرمي هاي زند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حفظ محرمانه بودن مسائل خانوادگي و 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ظهار آسيب،ترس يا خشم در قالب جملات وپرسش هاي همدلا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بخشش خطاهاي يكديگر(لجاجت را رها كن وببخش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تخاب اعتماد ،احترام متقابل و وفاداري به عنوان پايه و اساس رابطه ماندگ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نجام رفتارهاي مراقبانه و رهبري و مديري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دانستن اينكه هر كس لحظاتي شاد يا غمگين خواهد بود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يجاد و رشد احساس قوي ”ما ” بود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بيان مداوم سپاسگزا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roses flower.jpg"/>
          <p:cNvPicPr/>
          <p:nvPr/>
        </p:nvPicPr>
        <p:blipFill>
          <a:blip r:embed="rId1"/>
          <a:stretch/>
        </p:blipFill>
        <p:spPr>
          <a:xfrm>
            <a:off x="1763640" y="1052640"/>
            <a:ext cx="5761080" cy="5400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B Titr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7cc17"/>
                </a:solidFill>
                <a:latin typeface="Arial"/>
                <a:ea typeface="Titr"/>
              </a:rPr>
              <a:t> </a:t>
            </a:r>
            <a:r>
              <a:rPr b="1" lang="en-US" sz="4400" spc="-1" strike="noStrike">
                <a:solidFill>
                  <a:srgbClr val="f7cc17"/>
                </a:solidFill>
                <a:latin typeface="Arial"/>
                <a:ea typeface="Titr"/>
              </a:rPr>
              <a:t>PAIRS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Titr"/>
              </a:rPr>
              <a:t> 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Titr"/>
              </a:rPr>
              <a:t>از ديدگاه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2491920"/>
            <a:ext cx="8064360" cy="39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ffff"/>
                </a:solidFill>
                <a:latin typeface="Tahoma"/>
                <a:cs typeface="2  Zar"/>
              </a:rPr>
              <a:t>كاربرد عملي مهارتهاي ارتباط صميم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images.jpg"/>
          <p:cNvPicPr/>
          <p:nvPr/>
        </p:nvPicPr>
        <p:blipFill>
          <a:blip r:embed="rId1"/>
          <a:stretch/>
        </p:blipFill>
        <p:spPr>
          <a:xfrm>
            <a:off x="1547640" y="1341360"/>
            <a:ext cx="6527880" cy="4896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B Titr"/>
              </a:rPr>
              <a:t>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سخن اصل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ffffff"/>
                </a:solidFill>
                <a:latin typeface="Tahoma"/>
                <a:cs typeface="2  Zar"/>
              </a:rPr>
              <a:t>لازمه ازدواج پايدار</a:t>
            </a:r>
            <a:r>
              <a:rPr b="0" lang="fa-IR" sz="4800" spc="-1" strike="noStrike">
                <a:solidFill>
                  <a:srgbClr val="ffffff"/>
                </a:solidFill>
                <a:latin typeface="Tahoma"/>
                <a:ea typeface="2  Zar"/>
              </a:rPr>
              <a:t> ،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800" spc="-1" strike="noStrike">
                <a:solidFill>
                  <a:srgbClr val="ffffff"/>
                </a:solidFill>
                <a:latin typeface="Tahoma"/>
                <a:cs typeface="2  Zar"/>
              </a:rPr>
              <a:t>ايجاد صميميت ماندگار است</a:t>
            </a:r>
            <a:r>
              <a:rPr b="0" lang="fa-IR" sz="4800" spc="-1" strike="noStrike">
                <a:solidFill>
                  <a:srgbClr val="ffffff"/>
                </a:solidFill>
                <a:latin typeface="Tahoma"/>
                <a:ea typeface="2  Zar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93" name="Content Placeholder 3" descr="images3.jpg"/>
          <p:cNvPicPr/>
          <p:nvPr/>
        </p:nvPicPr>
        <p:blipFill>
          <a:blip r:embed="rId1"/>
          <a:stretch/>
        </p:blipFill>
        <p:spPr>
          <a:xfrm>
            <a:off x="2124000" y="1557360"/>
            <a:ext cx="5751720" cy="4535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640" y="404280"/>
            <a:ext cx="64008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اين برنامه شامل موارد ذيل مي باشد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1 .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ساماندهي نگرش ها و عقايد درباره توانمندي هاي عاطفي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2 .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آموزش و گسترش خودآگاهي ، ادبيات عاطفي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3 .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cs typeface="2  Zar"/>
              </a:rPr>
              <a:t>تغيير رفتارهاي ناكارآمد از طريق آموزش رفتارها و مهارتهاي افزايش دهنده صميميت</a:t>
            </a:r>
            <a:r>
              <a:rPr b="0" lang="fa-IR" sz="4000" spc="-1" strike="noStrike">
                <a:solidFill>
                  <a:srgbClr val="ffffff"/>
                </a:solidFill>
                <a:latin typeface="Tahoma"/>
                <a:ea typeface="2  Zar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B Titr"/>
              </a:rPr>
              <a:t>مشاوره پيش از ازدواج</a:t>
            </a:r>
            <a:r>
              <a:rPr b="1" lang="fa-IR" sz="4400" spc="-1" strike="noStrike">
                <a:solidFill>
                  <a:srgbClr val="f7cc17"/>
                </a:solidFill>
                <a:latin typeface="Arial"/>
                <a:ea typeface="B Titr"/>
              </a:rPr>
              <a:t>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tr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tr"/>
              </a:rPr>
              <a:t>PAIRS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Titr"/>
              </a:rPr>
              <a:t> 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B Titr"/>
              </a:rPr>
              <a:t>حوزه هاي آموزشي روش</a:t>
            </a:r>
            <a:r>
              <a:rPr b="1" lang="fa-IR" sz="3200" spc="-1" strike="noStrike">
                <a:solidFill>
                  <a:srgbClr val="ffffff"/>
                </a:solidFill>
                <a:latin typeface="Tahoma"/>
                <a:ea typeface="B Tit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دبيات عاطف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مهارتهاي مشترك زوج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نگرش ها ، راهبردها و اطلاعات كاربر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7640" y="188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</a:rPr>
              <a:t>ادبيات عاطفي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7994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شناخت 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2  Zar"/>
              </a:rPr>
              <a:t>5</a:t>
            </a:r>
            <a:r>
              <a:rPr b="0" lang="fa-IR" sz="3200" spc="-1" strike="noStrike">
                <a:solidFill>
                  <a:srgbClr val="ffffff"/>
                </a:solidFill>
                <a:latin typeface="Tahoma"/>
                <a:ea typeface="2  Zar"/>
              </a:rPr>
              <a:t> عاطفه اصلي و توانايي ابراز آن (درد ، ترس ، خشم ، عشق ، لذت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شناخت حساسيت هاي بيش از حد عاطفي خو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تشخيص شخصيت هاي بيش از حد عاطفي از شخصيت هاي سرد و بيرو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بيان احساسات بدون ايجاد ناراحتي يا سرزن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گوش دادن به ديگري براي ايجاد امنيت عاطف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مديريت هيجانات بخصوص خشم به جاي سركوبي عواط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داشتن احساس ارزشمن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640" y="62064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7cc17"/>
                </a:solidFill>
                <a:latin typeface="Arial"/>
                <a:cs typeface="2  Zar"/>
              </a:rPr>
              <a:t>مهارتهاي مشترك زوجي</a:t>
            </a:r>
            <a:br>
              <a:rPr sz="4400"/>
            </a:b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ايجاد اعتماد بين زوجين از طريق گوش دادن همدلا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يادگيري شكايت از يكديگر بدون حمله كرد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حل تعارضات با نگرش برنده – برن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توافق در زمينه هاي استقلال شخصي ، مالكيت و تصميم گي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شفاف سازي تصورات ذهني و كم كردن سوء تفاهم 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پذيرش نيازهاي اساسي احساسات جنسي و داشتن نگرش هاي درست در اين زمين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r" rtl="1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ffffff"/>
                </a:solidFill>
                <a:latin typeface="Tahoma"/>
                <a:cs typeface="2  Zar"/>
              </a:rPr>
              <a:t>مشخص كردن مرزهاي حريم خصوصي خانواد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6:11:32Z</dcterms:created>
  <dc:creator>Dear User!</dc:creator>
  <dc:description/>
  <dc:language>en-US</dc:language>
  <cp:lastModifiedBy>mofateh</cp:lastModifiedBy>
  <dcterms:modified xsi:type="dcterms:W3CDTF">2015-05-20T03:48:25Z</dcterms:modified>
  <cp:revision>22</cp:revision>
  <dc:subject/>
  <dc:title>مهارت خود آگاهي</dc:title>
</cp:coreProperties>
</file>