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E09-3A5E-4A17-B307-7A41397E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E78-ABBE-45F0-B383-761F93F7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14C-B15C-4E33-A2CC-AA095223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117-C049-4DB5-8DF7-BA2E1382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3D96-3923-4D72-A9E6-34132F77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DC00-C4C9-4C94-B84C-2FDBAE87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BDB-8C88-4D21-BC5C-0D74A063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E2C0-62C3-45C1-852A-545451E5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8DF5-61E9-47B1-836E-72020DB6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992-419C-4728-948F-B5863D5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4A1-97AF-445B-B08E-36994F91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E9F-3070-4561-9D8A-8ED0341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CF22-3BE4-4411-B538-9A53656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AAD4-BB24-4AF7-AC2F-802A8C89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9EE6-73E4-4A31-85E9-E57C170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CA4F-27BC-481F-9911-BEA63841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24F-C71B-44A1-87AD-72BBDF25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2AD-C903-446E-BB5A-002BA0B5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729-C1FC-41F3-BE44-4530504E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737-FD52-466D-B1AF-B612E0C6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5F3-BCF7-4D0E-8A84-D39891BA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B9D-ECD7-4E0D-B379-78967AD3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C73-EA85-43CD-A8AF-B60B61F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981-4084-4677-990F-EC4DA687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FA1D-FF15-406B-8E70-B127ACC64C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887C-94FA-4D8B-9D7E-DB809FCD5593}" type="slidenum">
              <a:rPr b="0" lang="ar-SA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cs typeface="2  Zar"/>
              </a:rPr>
              <a:t>بسم الله الرحمن الرحيم</a:t>
            </a: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ea typeface="2  Zar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7cc17"/>
                </a:solidFill>
                <a:latin typeface="Arial"/>
                <a:cs typeface="2  Zar"/>
              </a:rPr>
              <a:t>نگرش ها ، راهبردها و اطلاعات كاربردي</a:t>
            </a:r>
            <a:br>
              <a:rPr sz="3200"/>
            </a:b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37576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قال احساس علاقمندي رضايتمند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تفريحات ، خلاقيتها و سرگرمي هاي زند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فظ محرمانه بودن مسائل خانوادگي و 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ظهار آسيب،ترس يا خشم در قالب جملات وپرسش هاي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خشش خطاهاي يكديگر(لجاجت را رها كن وببخش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اعتماد ،احترام متقابل و وفاداري به عنوان پايه و اساس رابطه ماندگ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جام رفتارهاي مراقبانه و رهبري و مديري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نستن اينكه هر كس لحظاتي شاد يا غمگين خواهد بو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و رشد احساس قوي ”ما ” بو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مداوم سپاسگزا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roses flower.jpg"/>
          <p:cNvPicPr/>
          <p:nvPr/>
        </p:nvPicPr>
        <p:blipFill>
          <a:blip r:embed="rId1"/>
          <a:stretch/>
        </p:blipFill>
        <p:spPr>
          <a:xfrm>
            <a:off x="1763640" y="105264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PAIRS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Titr"/>
              </a:rPr>
              <a:t>از ديدگاه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2491920"/>
            <a:ext cx="806436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Tahoma"/>
                <a:cs typeface="2  Zar"/>
              </a:rPr>
              <a:t>كاربرد عملي مهارتهاي ارتباط صميم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images.jpg"/>
          <p:cNvPicPr/>
          <p:nvPr/>
        </p:nvPicPr>
        <p:blipFill>
          <a:blip r:embed="rId1"/>
          <a:stretch/>
        </p:blipFill>
        <p:spPr>
          <a:xfrm>
            <a:off x="1547640" y="1341360"/>
            <a:ext cx="652788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خن اصل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لازمه ازدواج پايدار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 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ايجاد صميميت ماندگار است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93" name="Content Placeholder 3" descr="images3.jpg"/>
          <p:cNvPicPr/>
          <p:nvPr/>
        </p:nvPicPr>
        <p:blipFill>
          <a:blip r:embed="rId1"/>
          <a:stretch/>
        </p:blipFill>
        <p:spPr>
          <a:xfrm>
            <a:off x="2124000" y="1557360"/>
            <a:ext cx="575172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اين برنامه شامل موارد ذيل مي باشد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1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اماندهي نگرش ها و عقايد درباره توانمندي هاي عاطف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2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آموزش و گسترش خودآگاهي ، ادبيات عاطفي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3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تغيير رفتارهاي ناكارآمد از طريق آموزش رفتارها و مهارتهاي افزايش دهنده صميميت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PAIRS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Titr"/>
              </a:rPr>
              <a:t>حوزه هاي آموزشي روش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ea typeface="B Tit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دبيا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هارتهاي مشترك زو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نگرش ها ، راهبردها و اطلاعات كاربر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</a:rPr>
              <a:t>ادبيات عاطف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99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 عاطفه اصلي و توانايي ابراز آن (درد ، ترس ، خشم ، عشق ، لذت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حساسيت هاي بيش از حد عاطفي خ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شخيص شخصيت هاي بيش از حد عاطفي از شخصيت هاي سرد و بيرو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احساسات بدون ايجاد ناراحتي يا سرزن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گوش دادن به ديگري براي ايجاد امني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ديريت هيجانات بخصوص خشم به جاي سركوبي عواط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شتن احساس ارزشمن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640" y="6206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2  Zar"/>
              </a:rPr>
              <a:t>مهارتهاي مشترك زوجي</a:t>
            </a:r>
            <a:br>
              <a:rPr sz="4400"/>
            </a:b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اعتماد بين زوجين از طريق گوش دادن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يادگيري شكايت از يكديگر بدون حمله كر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ل تعارضات با نگرش برنده – برن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وافق در زمينه هاي استقلال شخصي ، مالكيت و تصميم گي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فاف سازي تصورات ذهني و كم كردن سوء تفاهم 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پذيرش نيازهاي اساسي احساسات جنسي و داشتن نگرش هاي درست در اين زم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شخص كردن مرزهاي حريم خصوصي خانوا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6:11:32Z</dcterms:created>
  <dc:creator>Dear User!</dc:creator>
  <dc:description/>
  <dc:language>en-US</dc:language>
  <cp:lastModifiedBy>mofateh</cp:lastModifiedBy>
  <dcterms:modified xsi:type="dcterms:W3CDTF">2015-05-20T03:48:25Z</dcterms:modified>
  <cp:revision>22</cp:revision>
  <dc:subject/>
  <dc:title>مهارت خود آگاهي</dc:title>
</cp:coreProperties>
</file>